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5D5-E66A-4D25-BB47-8F700608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emical reactions, entropy increases when disorder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at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octortee.com/dsu/tiftickjian/bio100/enzy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hat-when-how.com/enzyme-mechanisms/illustrative-examples-a-a-chymotrypsin-part-1-enzyme-mechanis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amyl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D0E-AC5D-400E-A64F-36E8C79E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74E-C276-4D9D-820C-3665159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848-0874-480E-8E31-12530956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2F7-7FF8-43A6-9FAF-0CCAB54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D35-2BCE-4E24-A9EC-E01E2F35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B06-31DB-4F73-AAE3-E22D226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963-E7B4-46F0-8BEF-6F5A0347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0E8-9FB1-4DF7-B9C9-72FD813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757-9488-4EB0-8204-1DB64CFA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A54-E33B-4998-B5B0-38CF4B2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6C9-BB9F-4C5A-ACC3-CEEE918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A98-9D8D-4DC7-B295-538D4EA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C037-76FC-4FB6-9752-B379DDC1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 &amp;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p.130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alculations of the sample problems in the tutori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 (Enthalpy)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) is the heat content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 overall heat change of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: 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∆H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: ∆H po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r not a reaction occurs spontaneously depends not only on enthalpy change (∆H), but also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energy conversion, some of the useful energy in the system becomes unusable, and increas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) is a measure of the degre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emical and physical process involves a change in the entropy of the system (∆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--&gt; liquid/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--&gt;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reactant molecules --&gt; more product molecu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olecules --&gt; simpl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es move from area of high concentration to area of low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828800"/>
          <a:ext cx="7086600" cy="462744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2590560"/>
              </a:tblGrid>
              <a:tr h="13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thermi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ured by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ther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 favoured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avou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spontane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low T’s; spontaneous at high T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ot favou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high T’s; spontanteous at low T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;  always require net input of E to occ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ll reactions in a cell o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bol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bol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available to do work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action at temperature T, the change in free energy, ∆G is given by the equation: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lt;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spontane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goni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gt;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not spontaneous 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goni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=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at equilibrium and there is no net cha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composi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H = +484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 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n-spon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is increasin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emperature is high enough, reaction will proceed.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: Energy Currency of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use the energy carrier adenosine triphosphate (ATP) for almost all E-requiring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1981080"/>
            <a:ext cx="60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5760" y="1981080"/>
            <a:ext cx="64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563920"/>
            <a:ext cx="7772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ells use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use other energy-rich molecules di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anageable amount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le to couple with many different endergonic reactions (“univers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compared to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 in singl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organisms must obtain, store, and use energy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apac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energy from one body or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sessed by mov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E, mechanical E, electrical 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ored energy that an object poss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 E, chemical potentia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the universe can be converted or transformed, but not created or destr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photosynthesis: conversion of light E to chemical potentia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broken           (E 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formed            (E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rength/stability of a covalent bond (kJ/m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how much E is released when the bond i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C 346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H 411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Table 1 on page 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energy required to break bonds in reactants and start th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otential E during the transition state - the potential E of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duce th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emical reactions (see 3.3 in text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7:05Z</dcterms:created>
  <dc:creator>rubina khan</dc:creator>
  <dc:description/>
  <dc:language>en-US</dc:language>
  <cp:lastModifiedBy>rubina khan</cp:lastModifiedBy>
  <cp:lastPrinted>2010-04-22T10:04:17Z</cp:lastPrinted>
  <dcterms:modified xsi:type="dcterms:W3CDTF">2012-03-19T20:17:41Z</dcterms:modified>
  <cp:revision>149</cp:revision>
  <dc:subject/>
  <dc:title>Introduction to Metabolism</dc:title>
</cp:coreProperties>
</file>